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F90C-3D44-489D-A19E-CA49CA602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296-E7E3-4F0E-A52D-EDACE7BA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4D1-9652-48C3-B950-5EC9F2F6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35C-5690-4680-80CC-3DCEE2AB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2BE-ECB5-412F-93A9-242A65C7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7CA-702F-44EE-8640-62EAAB18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6DB-B84B-454C-B9FA-600FBDF5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9BE-07F2-4B6E-B167-5733558F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659-6A4B-4F1C-AA90-2E6F068C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8E6-EA5A-41E2-9FCE-F1E7404C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11C-6704-4063-ACDB-C0B8307B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14B-155D-4148-B030-8F7E813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F5B-77BD-47C8-9FFF-845FA0B6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3C9-BDA0-4E6C-947C-01697CB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35C-D1E3-4938-BD57-4C9D99482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0" y="1905120"/>
            <a:ext cx="4648320" cy="3778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10-26 &amp; 27-11 Use p. 88, first and second para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belief in one, supreme G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daism, Christianity, and Islam all look to the ancient city of  __________ as a holy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ewish holy book is called the 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0"/>
            <a:ext cx="2666880" cy="1751400"/>
          </a:xfrm>
          <a:prstGeom prst="rect">
            <a:avLst/>
          </a:prstGeom>
          <a:solidFill>
            <a:srgbClr val="fd2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10-26 &amp; 2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Complete G.R. 3-2 DUE next block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ET out Religion Chart  we did la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29528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monothe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5720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0" descr="moses"/>
          <p:cNvPicPr/>
          <p:nvPr/>
        </p:nvPicPr>
        <p:blipFill>
          <a:blip r:embed="rId1"/>
          <a:stretch/>
        </p:blipFill>
        <p:spPr>
          <a:xfrm>
            <a:off x="5867280" y="609480"/>
            <a:ext cx="266724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Prophet muhammad.bmp (325518 bytes)"/>
          <p:cNvPicPr/>
          <p:nvPr/>
        </p:nvPicPr>
        <p:blipFill>
          <a:blip r:embed="rId2"/>
          <a:stretch/>
        </p:blipFill>
        <p:spPr>
          <a:xfrm>
            <a:off x="4343400" y="0"/>
            <a:ext cx="158112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holy-koran2"/>
          <p:cNvPicPr/>
          <p:nvPr/>
        </p:nvPicPr>
        <p:blipFill>
          <a:blip r:embed="rId3"/>
          <a:srcRect l="30631" t="14630" r="29662" b="7897"/>
          <a:stretch/>
        </p:blipFill>
        <p:spPr>
          <a:xfrm>
            <a:off x="2666880" y="-228600"/>
            <a:ext cx="169884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CHR123A18"/>
          <p:cNvPicPr/>
          <p:nvPr/>
        </p:nvPicPr>
        <p:blipFill>
          <a:blip r:embed="rId4"/>
          <a:srcRect l="18188" t="14291" r="7277" b="17864"/>
          <a:stretch/>
        </p:blipFill>
        <p:spPr>
          <a:xfrm>
            <a:off x="5486400" y="373392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11430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To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63360" y="-1095480"/>
            <a:ext cx="20289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5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ideastmap"/>
          <p:cNvPicPr/>
          <p:nvPr/>
        </p:nvPicPr>
        <p:blipFill>
          <a:blip r:embed="rId1"/>
          <a:stretch/>
        </p:blipFill>
        <p:spPr>
          <a:xfrm>
            <a:off x="1371600" y="304920"/>
            <a:ext cx="670572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800600" y="350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5029200" y="3733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371600" y="457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95840" y="1171440"/>
            <a:ext cx="1143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p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99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Arial"/>
              </a:rPr>
              <a:t>Judais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ounder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Abrah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Holy Days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Hanukah, and Pass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Sacred Book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the To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lace of Worship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a Synag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ollowers called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Jews (about 13 mil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eliefs and Practices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..     pray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B..     Tzedakah (char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. .    Special diet laws (Kosh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D. .    observing the Shabbat (Sabbath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.  .    the  10   commandments given to M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CSO01858_0000[1]"/>
          <p:cNvPicPr/>
          <p:nvPr/>
        </p:nvPicPr>
        <p:blipFill>
          <a:blip r:embed="rId1"/>
          <a:stretch/>
        </p:blipFill>
        <p:spPr>
          <a:xfrm>
            <a:off x="4805280" y="2128680"/>
            <a:ext cx="37242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u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Jesus (about 2000 y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ly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Good Friday, Easter,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cred 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ce of Wo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llowers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Christians (about 1.2 billion) (largest # of follo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acher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iest, preacher, pastor,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fs &amp; Practic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er, charity, church attendance, baptism, Jesus is the Messiah, the golden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Pj04096760000[1]"/>
          <p:cNvPicPr/>
          <p:nvPr/>
        </p:nvPicPr>
        <p:blipFill>
          <a:blip r:embed="rId1"/>
          <a:stretch/>
        </p:blipFill>
        <p:spPr>
          <a:xfrm>
            <a:off x="6477120" y="0"/>
            <a:ext cx="2152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278520" y="578520"/>
            <a:ext cx="262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 Monotheistic 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1143000"/>
          <a:ext cx="8615160" cy="5100480"/>
        </p:xfrm>
        <a:graphic>
          <a:graphicData uri="http://schemas.openxmlformats.org/drawingml/2006/table">
            <a:tbl>
              <a:tblPr/>
              <a:tblGrid>
                <a:gridCol w="1174680"/>
                <a:gridCol w="882720"/>
                <a:gridCol w="914400"/>
                <a:gridCol w="836640"/>
                <a:gridCol w="1373040"/>
                <a:gridCol w="1219320"/>
                <a:gridCol w="1069920"/>
                <a:gridCol w="1144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y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cred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efs and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of Wo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er Ca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in To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1800 B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Christia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33 C.E. (or A.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largest  # of follo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Means to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“surrender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622 C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(or A.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212"/>
          <p:cNvSpPr/>
          <p:nvPr/>
        </p:nvSpPr>
        <p:spPr>
          <a:xfrm>
            <a:off x="0" y="62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4"/>
          <p:cNvSpPr/>
          <p:nvPr/>
        </p:nvSpPr>
        <p:spPr>
          <a:xfrm>
            <a:off x="1450800" y="1752480"/>
            <a:ext cx="9144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oses gave 10 command-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5"/>
          <p:cNvSpPr/>
          <p:nvPr/>
        </p:nvSpPr>
        <p:spPr>
          <a:xfrm>
            <a:off x="2286000" y="1828800"/>
            <a:ext cx="9907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uk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Pass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Yom Kip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6"/>
          <p:cNvSpPr/>
          <p:nvPr/>
        </p:nvSpPr>
        <p:spPr>
          <a:xfrm>
            <a:off x="3276720" y="16765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7"/>
          <p:cNvSpPr/>
          <p:nvPr/>
        </p:nvSpPr>
        <p:spPr>
          <a:xfrm>
            <a:off x="3276720" y="1752480"/>
            <a:ext cx="838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o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od called Yahweh or Jehov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9"/>
          <p:cNvSpPr/>
          <p:nvPr/>
        </p:nvSpPr>
        <p:spPr>
          <a:xfrm>
            <a:off x="5486400" y="1676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ynag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0"/>
          <p:cNvSpPr/>
          <p:nvPr/>
        </p:nvSpPr>
        <p:spPr>
          <a:xfrm>
            <a:off x="6858000" y="1676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1"/>
          <p:cNvSpPr/>
          <p:nvPr/>
        </p:nvSpPr>
        <p:spPr>
          <a:xfrm>
            <a:off x="7772400" y="1676520"/>
            <a:ext cx="1143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3"/>
          <p:cNvSpPr/>
          <p:nvPr/>
        </p:nvSpPr>
        <p:spPr>
          <a:xfrm>
            <a:off x="4114800" y="16765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4"/>
          <p:cNvSpPr/>
          <p:nvPr/>
        </p:nvSpPr>
        <p:spPr>
          <a:xfrm>
            <a:off x="4038480" y="1752480"/>
            <a:ext cx="1447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ab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ll Looking for Mess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ose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16002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286000" y="3352680"/>
            <a:ext cx="99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rist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Good 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3241800" y="3341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2362320" y="4952880"/>
            <a:ext cx="990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1413000" y="4946760"/>
            <a:ext cx="1143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roph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4114800" y="3376440"/>
            <a:ext cx="14479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Jesus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sus is the Mess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sus is God’s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5521320" y="3341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u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114800" y="4724280"/>
            <a:ext cx="13892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ve pillars of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one G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3235320" y="4946760"/>
            <a:ext cx="68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Ko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*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od called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7772400" y="33289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 &amp; S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6858000" y="32767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rist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7819920" y="487692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6934320" y="4800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6"/>
          <p:cNvSpPr/>
          <p:nvPr/>
        </p:nvSpPr>
        <p:spPr>
          <a:xfrm>
            <a:off x="5538960" y="4807080"/>
            <a:ext cx="86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cca in Saudi Arabia is a most 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MCj02768760000[1]"/>
          <p:cNvPicPr/>
          <p:nvPr/>
        </p:nvPicPr>
        <p:blipFill>
          <a:blip r:embed="rId1"/>
          <a:stretch/>
        </p:blipFill>
        <p:spPr>
          <a:xfrm>
            <a:off x="1066680" y="4800600"/>
            <a:ext cx="322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990720" y="1981080"/>
            <a:ext cx="75438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DAYS: Ramadan, Eid al-Fi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RED BOOK: Qur’an or K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WORSHIP: Mo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RS CALLED: Musl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S &amp; PRACTI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Pillars of F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elief in one God (All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Pray 5 times a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Charity (giving to the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Fasting during the month of Ram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Making a hajj (journey) to Mecca at least once in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Cj02768760000[1]"/>
          <p:cNvPicPr/>
          <p:nvPr/>
        </p:nvPicPr>
        <p:blipFill>
          <a:blip r:embed="rId1"/>
          <a:stretch/>
        </p:blipFill>
        <p:spPr>
          <a:xfrm>
            <a:off x="1066680" y="0"/>
            <a:ext cx="1635120" cy="1933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Papyrus"/>
              </a:rPr>
              <a:t>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j0301050"/>
          <p:cNvPicPr/>
          <p:nvPr/>
        </p:nvPicPr>
        <p:blipFill>
          <a:blip r:embed="rId2"/>
          <a:stretch/>
        </p:blipFill>
        <p:spPr>
          <a:xfrm>
            <a:off x="6324480" y="3581280"/>
            <a:ext cx="1820880" cy="133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Cj03103280000[1]"/>
          <p:cNvPicPr/>
          <p:nvPr/>
        </p:nvPicPr>
        <p:blipFill>
          <a:blip r:embed="rId3"/>
          <a:stretch/>
        </p:blipFill>
        <p:spPr>
          <a:xfrm>
            <a:off x="640080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8:40:37Z</dcterms:created>
  <dc:creator>Selena Ramsey</dc:creator>
  <dc:description/>
  <dc:language>en-US</dc:language>
  <cp:lastModifiedBy>poweruser</cp:lastModifiedBy>
  <dcterms:modified xsi:type="dcterms:W3CDTF">2011-10-26T12:55:45Z</dcterms:modified>
  <cp:revision>307</cp:revision>
  <dc:subject/>
  <dc:title>Slide 1</dc:title>
</cp:coreProperties>
</file>